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3A9E-7162-4DDE-B0E0-F7BC69FF1A5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FE87-8E33-4FD4-B6CC-F66C7F49CC7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0A7E-E8DD-4D2D-9504-0FA8062C6E2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MMENT ON LETTERS TO THE EDI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E97D-6030-40E4-989A-C21AA08B3E6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4694-B2B8-428A-AD53-3728B4B1605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403-A5D1-4325-8F73-7CCB5070DBB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1A54-1667-4F29-B4CA-6363E6DF7E4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C0E0-9CA6-454E-B0D4-D3C1D10526C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EE1B-B61C-4F64-8D2C-1F359ADED6D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33C4-0149-4858-ABDB-04B7B741556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8105-F5A3-47A1-AD34-AB8D22C10BE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77D3-2089-4286-8A9D-2E7E1D70A36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205B-599B-4C1A-883E-FF18E7961CA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6C46-361B-4D54-995A-FFBCBF8602C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4E1C-FD70-4A81-8477-BD558F0DE1C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1428-FF74-43BC-B4E1-0D1BD6E6257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B8E6-5207-4B2E-ACA8-0F48274C63F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397-7DF1-4AFC-905D-DB197255F8C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6499-5EF2-4BD8-9164-9651D7D03CB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DF02-709F-4EBD-A413-B34AA848558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D7F8-827E-4997-92BA-3D091546D48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AD5E-9374-4F4B-93BA-8352C6C0341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756-6841-4CC4-88DF-BBE9779E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65A-FDCA-466F-BAA2-AB6AF36D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B34-4491-4C1D-BBF3-4A40CEE8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12D-AF69-4B4B-8E35-F5EBD4AC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21D-CB44-48DA-A516-0506B47E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75C-5A74-4F43-A859-0B3435B1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1FC-0989-4C18-B7AA-82CC03DB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7F6-460E-4660-B850-14C02093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E74-FCC3-4D4F-B205-84B4D400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384-A5C3-418D-B075-250A621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C4D-32C5-4080-A083-32BCCD0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B91-24A6-4908-971A-BA14EDF1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79D0-B9AF-4FED-9F25-0916203DD97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MANAGEMENT  OF ALCOHOL WITHDRAWAL  IN A GENERAL HOSPITAL SETTING- CL PSYCHIATRY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R.HEWKO  MD  FRCP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CL PSYCHIAT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898989"/>
                </a:solidFill>
                <a:latin typeface="Calibri"/>
              </a:rPr>
              <a:t>rhewko@telus.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2 % - 64/124 OF PATIENTS RX DID NOT MEET INCLUS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4 % - 9 PTS UNABLE TO COMMUN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5 % - 35 PTS HAD NO RECENT ALCOHOL H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1 % - 20 PTS MET NEITHER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DEVOPMENT AND  VALI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IVATE HOSPITAL DET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GE &lt; 60 YRS 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TS MEDICALLY CL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GEN. HOSPTIAL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XCLUSION CRITERIA - AG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SEVERITY OF ILL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PRINTED 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ELOPED BY AS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00 PTS. IN A VA DET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 PTS OVER AGE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PTS MEDICALLY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LITERATURE – BENZODIAZE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NTS OF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-ANALYSIS HOSPITAL BASED MANAGEMENT OF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LBROOK,CMAJ,MAR 9,1999. 160(5) 649-6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TIVE STUDIES – BENZO’S. NEUROLEPTICS, ANTICONVULSANTS, CHLORAL HYD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ZODIAZIPINES SAFE AND EFFEC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 OF CHOICE FOR TREATMENT OF A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ENZODIAZEPINE SUPERIOR IN EFFICACY /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MIT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1 “GOOD”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s 20-30 PATIENTS PER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AN AGE 35-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 STUDIES LTD PTS TO MILD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STUDIES EXCLUDED SEVERELY 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AL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DVANTAGES = DISADVANT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SE AND EFFICI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DENTIFY” AT RISK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ITIATE CIWA – TICK BOX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URSING STAFF MANAGE THE PATIENT ON “AUTOPILOT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ASSESS CIWA SC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GIVE BENZOS UNTIL SCORE &lt;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INIMAL ONGOING 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IMPLICATION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ALIDATED FOR RELATIVELY YOUNG, HEALTHY P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TS INAPPROPRIATELY STARTED INTO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OST PHYSICIANS UNAWARE OF LIMI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INIMAL FORMAL TE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IMITED PHYSICIAN MONIT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DELAYED RECOGNITION OF CO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OTENTIAL FOR SIGNIFICANT MORBIDITY/MORT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SYCHIATRIC REFERRAL - ONGOING AGITATION / CONFU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- DELI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ELIRIUM – ALCOHOL HX / SEQUELAE OF 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D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T’S 1/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“OTHER”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BENZODIAZEPINE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W AND DELIRIUM OTHER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AND BENZO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SSESSMENT/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IDENCE / ABSENCE OF AUTONOMIC AROUSAL (A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AA CONTINUE BENZO’S ADD NEUROLEPTICS REG/P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DROWSY / MIN. AA - TAPER BENZO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TITRATE REG/PRN NEUROLEP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NORMALIZE SLEEP - QUETIA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W - MAJOR AUTONOMIC AROU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RACTORY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GGRESSIVE BENZO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LORAZEPAM 2-4 mg QIH P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REG. BENZO’S – LORAZEPAM / DIAZEP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HYPOMAGNESEMIA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S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OTHING TO DISC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YPOMAGNES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MMON ISSUE IN PATIENTS AT RISK -MAJOR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YPOMAG.  - INCR. RISK /SEVERITY OF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INCR. RISK SEIZURES / SEIZURE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HYPOKA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WITHDRAW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BENZO IN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ANIMAL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PLACEMENT – 5 GMs IV Q12H/Q8H 3-6 D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FRACTORY DELI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2 Y/O MALE – ONGOING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AY 4 – DROWSY/ DISORI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ERAGING 10 mg LORAZEPAM LAST 2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FUSION/NYSTAGMOUS/ATAX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RNICKE’S ENCEPHAL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AMIN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DICAL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0 % NEUROLOGIC SEQUELAE EVEN WITH 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- THIAM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PARENTERAL IM/IV 100m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T LEAST 3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RELIABLE UNTIL ORAL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PROTOCOL NOT VALIDATED IN EDLERLY MEDICALLY COMPR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VERUSED WITH INADEQUAT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SS OF CLINICAL SKILLS / JUD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IGNIFICANT INCIDENCE RESIDUAL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LAW SUIT WAITING TO HAPP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L PSYCHIARTY ROL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Y MANAG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ONDAR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FAILED PRIMARY SERVI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PENDANT ON UNDERSTANDING PRIMARY SERVICE MODEL – CIWA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CLINICAL INSTITUTE WITHDRAWAL ASSESSMENT -ALCOH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9 ITEMS ASSESSED BY NURSING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LINKED TO A PREPRINTED ORDER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PRIMARY AGENTS - BENZODIAZP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32814" t="14693" r="29218" b="5669"/>
          <a:stretch/>
        </p:blipFill>
        <p:spPr>
          <a:xfrm>
            <a:off x="2071800" y="214200"/>
            <a:ext cx="50720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32346" t="14693" r="27813" b="2575"/>
          <a:stretch/>
        </p:blipFill>
        <p:spPr>
          <a:xfrm>
            <a:off x="2071800" y="214200"/>
            <a:ext cx="514332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PROTOCOL -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IDENCE BAS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QUIRE LESS BENZO’S THAN FIXED DOSE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SISTANT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AL PHYSICIAN INVOV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ILY NURSING BASED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SIZE FITS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YO CLINIC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ITLE – Inappropriate use of Symptom-Triggered Therapy for Alcohol Withdrawal in the General Hos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uthors – KA Hecksel, JM Bostwick, TM Jae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f. Mayo Clin. Proc. 2008;83(3):2004 274-2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124 OF 495 PATIENTS RX WITH CIWA PROTOCOL IN TWO MAYO CLINIC AFFILIATED HOSP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ANDOM SELECTION ACCOUNTING FOR AGE/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DMISSION CRITERIA FOR CIWA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ALES - &gt; 4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EMALES - &gt; 2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BLE TO COMMUNICATE MEANINGFU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4:00:58Z</dcterms:created>
  <dc:creator>RAH</dc:creator>
  <dc:description/>
  <dc:language>en-US</dc:language>
  <cp:lastModifiedBy>Peter</cp:lastModifiedBy>
  <dcterms:modified xsi:type="dcterms:W3CDTF">2009-10-26T21:17:22Z</dcterms:modified>
  <cp:revision>8</cp:revision>
  <dc:subject/>
  <dc:title>MANAGEMENT  OF ALCOHOL WITHDRAWAL  IN A GENERAL HOSPITAL SETTING- CL PSYCHIATRY PERSPEC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